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15.wmf" ContentType="image/x-wmf"/>
  <Override PartName="/ppt/media/image7.png" ContentType="image/png"/>
  <Override PartName="/ppt/media/image34.jpeg" ContentType="image/jpeg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5.png" ContentType="image/png"/>
  <Override PartName="/ppt/media/image13.wmf" ContentType="image/x-wmf"/>
  <Override PartName="/ppt/media/image30.jpeg" ContentType="image/jpeg"/>
  <Override PartName="/ppt/media/image33.jpeg" ContentType="image/jpeg"/>
  <Override PartName="/ppt/media/image11.png" ContentType="image/png"/>
  <Override PartName="/ppt/media/image31.jpeg" ContentType="image/jpe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8.wmf" ContentType="image/x-wmf"/>
  <Override PartName="/ppt/media/image32.jpeg" ContentType="image/jpeg"/>
  <Override PartName="/ppt/media/image20.wmf" ContentType="image/x-wmf"/>
  <Override PartName="/ppt/media/image19.wmf" ContentType="image/x-wmf"/>
  <Override PartName="/ppt/media/image2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6CF3-7703-4399-A53E-FAFE439628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FF3B-DE02-4372-85E3-8328473883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4815-053E-4236-9E63-12F90238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9373-06A4-44E0-8ECF-567C0CE5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9BB1-6222-48B1-886F-B8873632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C161-751B-4B93-A2F3-99300B99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1593-8798-442F-A608-F0115ECC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5035-8EAE-42EC-9E2A-6B73C2B4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A691-D76A-4258-995D-C53D7EB3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E35C-2AA0-4364-AB1C-8D3E5207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DA36-9D5D-4D88-9493-2A5E5020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C115-6880-4D9F-A6DB-ED7D0904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2CC5-9F7B-41B2-986A-FC12EABE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9946-F240-4D90-83C9-D79554A7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42E4-6470-48BA-9ABE-90E010E757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6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23.wmf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dmitriev4605@yandex.ru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3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49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города Дмитриева Курской област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Бюджет для граждан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к Проекту бюджета муниципального образования «Город Дмитриев» Курской области на 2019 и на плановый период 2020 и 2021 годов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2"/>
          <a:stretch/>
        </p:blipFill>
        <p:spPr>
          <a:xfrm>
            <a:off x="3925800" y="189000"/>
            <a:ext cx="1146240" cy="13222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" descr=""/>
          <p:cNvPicPr/>
          <p:nvPr/>
        </p:nvPicPr>
        <p:blipFill>
          <a:blip r:embed="rId3"/>
          <a:stretch/>
        </p:blipFill>
        <p:spPr>
          <a:xfrm>
            <a:off x="2852640" y="2206800"/>
            <a:ext cx="3438720" cy="21999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"/>
          <p:cNvPicPr/>
          <p:nvPr/>
        </p:nvPicPr>
        <p:blipFill>
          <a:blip r:embed="rId4"/>
          <a:stretch/>
        </p:blipFill>
        <p:spPr>
          <a:xfrm>
            <a:off x="6729480" y="1231920"/>
            <a:ext cx="2146320" cy="15177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"/>
          <p:cNvPicPr/>
          <p:nvPr/>
        </p:nvPicPr>
        <p:blipFill>
          <a:blip r:embed="rId5"/>
          <a:stretch/>
        </p:blipFill>
        <p:spPr>
          <a:xfrm>
            <a:off x="249120" y="1036800"/>
            <a:ext cx="2286000" cy="190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http://cs106.vk.me/v106555/5a/N6Hs0Brnc-g.jpg"/>
          <p:cNvPicPr/>
          <p:nvPr/>
        </p:nvPicPr>
        <p:blipFill>
          <a:blip r:embed="rId6"/>
          <a:stretch/>
        </p:blipFill>
        <p:spPr>
          <a:xfrm>
            <a:off x="324000" y="1127160"/>
            <a:ext cx="21571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Text Box 2"/>
          <p:cNvGrpSpPr/>
          <p:nvPr/>
        </p:nvGrpSpPr>
        <p:grpSpPr>
          <a:xfrm>
            <a:off x="250920" y="0"/>
            <a:ext cx="9144000" cy="6168960"/>
            <a:chOff x="250920" y="0"/>
            <a:chExt cx="9144000" cy="6168960"/>
          </a:xfrm>
        </p:grpSpPr>
        <p:pic>
          <p:nvPicPr>
            <p:cNvPr id="167" name="Text Box 2" descr=""/>
            <p:cNvPicPr/>
            <p:nvPr/>
          </p:nvPicPr>
          <p:blipFill>
            <a:blip r:embed="rId1"/>
            <a:stretch/>
          </p:blipFill>
          <p:spPr>
            <a:xfrm>
              <a:off x="25092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4"/>
            <p:cNvSpPr/>
            <p:nvPr/>
          </p:nvSpPr>
          <p:spPr>
            <a:xfrm>
              <a:off x="257040" y="6120"/>
              <a:ext cx="9131040" cy="61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69" name="Object 23"/>
          <p:cNvGraphicFramePr/>
          <p:nvPr/>
        </p:nvGraphicFramePr>
        <p:xfrm>
          <a:off x="247680" y="666720"/>
          <a:ext cx="8786880" cy="5450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0" name="Object 2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7680" y="666720"/>
                    <a:ext cx="878688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25"/>
          <p:cNvGraphicFramePr/>
          <p:nvPr/>
        </p:nvGraphicFramePr>
        <p:xfrm>
          <a:off x="0" y="4294080"/>
          <a:ext cx="7031160" cy="18748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72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294080"/>
                    <a:ext cx="703116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24"/>
          <p:cNvGraphicFramePr/>
          <p:nvPr/>
        </p:nvGraphicFramePr>
        <p:xfrm>
          <a:off x="247680" y="2706840"/>
          <a:ext cx="4699080" cy="15174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74" name="Object 24" descr=""/>
                  <p:cNvPicPr/>
                  <p:nvPr/>
                </p:nvPicPr>
                <p:blipFill>
                  <a:blip r:embed="rId7">
                    <a:alphaModFix amt="59000"/>
                  </a:blip>
                  <a:stretch/>
                </p:blipFill>
                <p:spPr>
                  <a:xfrm>
                    <a:off x="247680" y="2706840"/>
                    <a:ext cx="4699080" cy="15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города Дмитриев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труктура налоговых доход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бюджета муниципального образования «Город Дмитриев» в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201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9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-20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21 г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1792440" y="23605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Diagram 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185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4"/>
            <p:cNvSpPr/>
            <p:nvPr/>
          </p:nvSpPr>
          <p:spPr>
            <a:xfrm>
              <a:off x="6120" y="6120"/>
              <a:ext cx="9131040" cy="61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7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города Дмитриев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Diagram 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aphicFrame>
        <p:nvGraphicFramePr>
          <p:cNvPr id="192" name=""/>
          <p:cNvGraphicFramePr/>
          <p:nvPr/>
        </p:nvGraphicFramePr>
        <p:xfrm>
          <a:off x="4932360" y="1484280"/>
          <a:ext cx="4038480" cy="2185920"/>
        </p:xfrm>
        <a:graphic>
          <a:graphicData uri="http://schemas.openxmlformats.org/drawingml/2006/table">
            <a:tbl>
              <a:tblPr/>
              <a:tblGrid>
                <a:gridCol w="2417760"/>
                <a:gridCol w="162072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468360" y="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Структура налогов на имущество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в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201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9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-20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21 г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Object 23"/>
          <p:cNvGraphicFramePr/>
          <p:nvPr/>
        </p:nvGraphicFramePr>
        <p:xfrm>
          <a:off x="155520" y="639720"/>
          <a:ext cx="9198000" cy="560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7" name="Object 2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520" y="639720"/>
                    <a:ext cx="9198000" cy="56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24"/>
          <p:cNvGraphicFramePr/>
          <p:nvPr/>
        </p:nvGraphicFramePr>
        <p:xfrm>
          <a:off x="-108000" y="2133720"/>
          <a:ext cx="7618320" cy="26510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99" name="Object 2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108000" y="2133720"/>
                    <a:ext cx="7618320" cy="26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25"/>
          <p:cNvGraphicFramePr/>
          <p:nvPr/>
        </p:nvGraphicFramePr>
        <p:xfrm>
          <a:off x="247680" y="3978360"/>
          <a:ext cx="7616880" cy="17175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01" name="Object 2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7680" y="3978360"/>
                    <a:ext cx="761688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203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4"/>
            <p:cNvSpPr/>
            <p:nvPr/>
          </p:nvSpPr>
          <p:spPr>
            <a:xfrm>
              <a:off x="6120" y="6120"/>
              <a:ext cx="9131040" cy="61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5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города Дмитриев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Diagram 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aphicFrame>
        <p:nvGraphicFramePr>
          <p:cNvPr id="210" name=""/>
          <p:cNvGraphicFramePr/>
          <p:nvPr/>
        </p:nvGraphicFramePr>
        <p:xfrm>
          <a:off x="4932360" y="1484280"/>
          <a:ext cx="4038480" cy="2185920"/>
        </p:xfrm>
        <a:graphic>
          <a:graphicData uri="http://schemas.openxmlformats.org/drawingml/2006/table">
            <a:tbl>
              <a:tblPr/>
              <a:tblGrid>
                <a:gridCol w="2417760"/>
                <a:gridCol w="162072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22"/>
          <p:cNvSpPr/>
          <p:nvPr/>
        </p:nvSpPr>
        <p:spPr>
          <a:xfrm>
            <a:off x="468360" y="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Структура неналоговых доходов бюджета муниципального образования «Город Дмитриев»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в 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201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9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-20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21 г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4" name="Object 23"/>
          <p:cNvGraphicFramePr/>
          <p:nvPr/>
        </p:nvGraphicFramePr>
        <p:xfrm>
          <a:off x="247680" y="666720"/>
          <a:ext cx="9198000" cy="560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5" name="Object 2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7680" y="666720"/>
                    <a:ext cx="9198000" cy="56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24"/>
          <p:cNvGraphicFramePr/>
          <p:nvPr/>
        </p:nvGraphicFramePr>
        <p:xfrm>
          <a:off x="-55440" y="2305080"/>
          <a:ext cx="7618320" cy="2340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17" name="Object 2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55440" y="2305080"/>
                    <a:ext cx="761832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25"/>
          <p:cNvGraphicFramePr/>
          <p:nvPr/>
        </p:nvGraphicFramePr>
        <p:xfrm>
          <a:off x="-55440" y="4160880"/>
          <a:ext cx="7618320" cy="23400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19" name="Object 2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-55440" y="4160880"/>
                    <a:ext cx="761832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0" name="chart" descr=""/>
          <p:cNvPicPr/>
          <p:nvPr/>
        </p:nvPicPr>
        <p:blipFill>
          <a:blip r:embed="rId8"/>
          <a:stretch/>
        </p:blipFill>
        <p:spPr>
          <a:xfrm>
            <a:off x="7308720" y="1374840"/>
            <a:ext cx="1224000" cy="45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Text Box 2"/>
          <p:cNvGrpSpPr/>
          <p:nvPr/>
        </p:nvGrpSpPr>
        <p:grpSpPr>
          <a:xfrm>
            <a:off x="6480" y="0"/>
            <a:ext cx="9137520" cy="6151680"/>
            <a:chOff x="6480" y="0"/>
            <a:chExt cx="9137520" cy="6151680"/>
          </a:xfrm>
        </p:grpSpPr>
        <p:pic>
          <p:nvPicPr>
            <p:cNvPr id="22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1080"/>
              <a:ext cx="9137520" cy="614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480" y="0"/>
              <a:ext cx="9137520" cy="61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города Дмитриев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800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Структура расходов бюджета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муниципального образования «Город Дмитриев»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по разделам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юджетной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классифик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55640" y="878040"/>
          <a:ext cx="6985080" cy="4635360"/>
        </p:xfrm>
        <a:graphic>
          <a:graphicData uri="http://schemas.openxmlformats.org/drawingml/2006/table">
            <a:tbl>
              <a:tblPr/>
              <a:tblGrid>
                <a:gridCol w="1069920"/>
                <a:gridCol w="2494080"/>
                <a:gridCol w="1141200"/>
                <a:gridCol w="1140120"/>
                <a:gridCol w="1139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9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1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4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5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91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7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9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8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8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9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9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служивание муниципального дол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ловно  утвержденные расходы бюджет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233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города Дмитриев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1" name="Диаграмма 1"/>
          <p:cNvGraphicFramePr/>
          <p:nvPr/>
        </p:nvGraphicFramePr>
        <p:xfrm>
          <a:off x="9360" y="347760"/>
          <a:ext cx="8521920" cy="5495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2" name="Диаграмма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60" y="347760"/>
                    <a:ext cx="8521920" cy="54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244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города Дмитриев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2" name="Диаграмма 1"/>
          <p:cNvGraphicFramePr/>
          <p:nvPr/>
        </p:nvGraphicFramePr>
        <p:xfrm>
          <a:off x="347760" y="357120"/>
          <a:ext cx="8521560" cy="531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3" name="Диаграмма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7760" y="357120"/>
                    <a:ext cx="8521560" cy="53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255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7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города Дмитриев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3" name="Диаграмма 1"/>
          <p:cNvGraphicFramePr/>
          <p:nvPr/>
        </p:nvGraphicFramePr>
        <p:xfrm>
          <a:off x="347760" y="357120"/>
          <a:ext cx="8521560" cy="5678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4" name="Диаграмма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7760" y="357120"/>
                    <a:ext cx="8521560" cy="56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Text Box 2"/>
          <p:cNvGrpSpPr/>
          <p:nvPr/>
        </p:nvGrpSpPr>
        <p:grpSpPr>
          <a:xfrm>
            <a:off x="6480" y="6480"/>
            <a:ext cx="9131040" cy="6156360"/>
            <a:chOff x="6480" y="6480"/>
            <a:chExt cx="9131040" cy="6156360"/>
          </a:xfrm>
        </p:grpSpPr>
        <p:pic>
          <p:nvPicPr>
            <p:cNvPr id="266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104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города Дмитриев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324000" y="549360"/>
          <a:ext cx="8496000" cy="4856040"/>
        </p:xfrm>
        <a:graphic>
          <a:graphicData uri="http://schemas.openxmlformats.org/drawingml/2006/table">
            <a:tbl>
              <a:tblPr/>
              <a:tblGrid>
                <a:gridCol w="4895640"/>
                <a:gridCol w="1152720"/>
                <a:gridCol w="1224000"/>
                <a:gridCol w="122364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в городе Дмитриев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города Дмитри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храна окружающей среды муниципального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беспечение доступным и комфортным жильём и коммунальными услугами граждан граждан города Дмитрие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5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Повышение эффективности работы с молодежью, организация отдыха и оздоровления детей, молодежи, развитие физической культуры и спорта в городе Дмитриев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Развитие муниципальной службы в городе Дмитриев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Text Box 2"/>
          <p:cNvGrpSpPr/>
          <p:nvPr/>
        </p:nvGrpSpPr>
        <p:grpSpPr>
          <a:xfrm>
            <a:off x="6480" y="6480"/>
            <a:ext cx="9131040" cy="6156360"/>
            <a:chOff x="6480" y="6480"/>
            <a:chExt cx="9131040" cy="6156360"/>
          </a:xfrm>
        </p:grpSpPr>
        <p:pic>
          <p:nvPicPr>
            <p:cNvPr id="276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104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города Дмитриев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85840" y="463680"/>
          <a:ext cx="8496360" cy="4606920"/>
        </p:xfrm>
        <a:graphic>
          <a:graphicData uri="http://schemas.openxmlformats.org/drawingml/2006/table">
            <a:tbl>
              <a:tblPr/>
              <a:tblGrid>
                <a:gridCol w="5462640"/>
                <a:gridCol w="1000080"/>
                <a:gridCol w="1000080"/>
                <a:gridCol w="103356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Развитие транспортной системы, обеспечение перевозки пассажиров в муниципальном образовании и безопасности дорожного движ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Профилактика правонарушений в городе Дмитриев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Защита населения и территории от чрезвычайных ситуаций, обеспечение пожарной безопасности и безопасности людей на водных объекта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Повышение эффективности управления финансами города Дмитриев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Развитие малого и среднего предпринимательства на территории муниципального образ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Противодействие экстремизму и профилактика терроризма на территории муниципального образ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 Формирование современной городской среды на территории муниципального образования «Город Дмитриев» Курской обла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Text Box 2"/>
          <p:cNvGrpSpPr/>
          <p:nvPr/>
        </p:nvGrpSpPr>
        <p:grpSpPr>
          <a:xfrm>
            <a:off x="0" y="0"/>
            <a:ext cx="9137520" cy="6156360"/>
            <a:chOff x="0" y="0"/>
            <a:chExt cx="9137520" cy="6156360"/>
          </a:xfrm>
        </p:grpSpPr>
        <p:pic>
          <p:nvPicPr>
            <p:cNvPr id="28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города Дмитриев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324000" y="189000"/>
            <a:ext cx="8496000" cy="863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ходы бюджета муниципального образования «Город Дмитриев» в расчете на душу населения в 2019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Блок-схема: альтернативный процесс 10"/>
          <p:cNvSpPr/>
          <p:nvPr/>
        </p:nvSpPr>
        <p:spPr>
          <a:xfrm>
            <a:off x="1116000" y="1484280"/>
            <a:ext cx="1335240" cy="901800"/>
          </a:xfrm>
          <a:prstGeom prst="flowChartAlternateProcess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2,76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ля в меся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Блок-схема: альтернативный процесс 11"/>
          <p:cNvSpPr/>
          <p:nvPr/>
        </p:nvSpPr>
        <p:spPr>
          <a:xfrm>
            <a:off x="2484360" y="1484280"/>
            <a:ext cx="4751640" cy="900000"/>
          </a:xfrm>
          <a:prstGeom prst="flowChartAlternateProcess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ов бюджета муниципального образования «Город Дмитриев»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ится на 1 граждан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Блок-схема: альтернативный процесс 13"/>
          <p:cNvSpPr/>
          <p:nvPr/>
        </p:nvSpPr>
        <p:spPr>
          <a:xfrm>
            <a:off x="1042920" y="2924280"/>
            <a:ext cx="1336680" cy="865080"/>
          </a:xfrm>
          <a:prstGeom prst="flowChartAlternateProcess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9,94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ля в меся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Блок-схема: альтернативный процесс 14"/>
          <p:cNvSpPr/>
          <p:nvPr/>
        </p:nvSpPr>
        <p:spPr>
          <a:xfrm>
            <a:off x="2395440" y="2924280"/>
            <a:ext cx="4892760" cy="825480"/>
          </a:xfrm>
          <a:prstGeom prst="flowChartAlternateProcess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ов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а муниципального образования «Город Дмитриев»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жилищно-коммунальное хозяйство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ится на 1 граждан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Блок-схема: альтернативный процесс 16"/>
          <p:cNvSpPr/>
          <p:nvPr/>
        </p:nvSpPr>
        <p:spPr>
          <a:xfrm>
            <a:off x="1042920" y="4005360"/>
            <a:ext cx="1336680" cy="80964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03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ля в меся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Блок-схема: альтернативный процесс 17"/>
          <p:cNvSpPr/>
          <p:nvPr/>
        </p:nvSpPr>
        <p:spPr>
          <a:xfrm>
            <a:off x="2395440" y="4003560"/>
            <a:ext cx="4892760" cy="835200"/>
          </a:xfrm>
          <a:prstGeom prst="flowChartAlternateProcess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ов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а муниципального образования «Город Дмитриев»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жное хозяйство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ится на 1 граждан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Блок-схема: альтернативный процесс 19"/>
          <p:cNvSpPr/>
          <p:nvPr/>
        </p:nvSpPr>
        <p:spPr>
          <a:xfrm>
            <a:off x="1116000" y="5013360"/>
            <a:ext cx="1335240" cy="770040"/>
          </a:xfrm>
          <a:prstGeom prst="flowChartAlternateProcess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,00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убля в меся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Блок-схема: альтернативный процесс 20"/>
          <p:cNvSpPr/>
          <p:nvPr/>
        </p:nvSpPr>
        <p:spPr>
          <a:xfrm>
            <a:off x="2411280" y="4943520"/>
            <a:ext cx="4892760" cy="861840"/>
          </a:xfrm>
          <a:prstGeom prst="flowChartAlternateProcess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ов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а муниципального образования «Город Дмитриев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бразование и культуру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ится на 1 граждан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2" descr="C:\Users\KorolkoEA\Desktop\Картинки для бюджета для граждан\article_1272_d2f560f77f17f8942d1e8f0fa73470211307558658.jpg"/>
          <p:cNvPicPr/>
          <p:nvPr/>
        </p:nvPicPr>
        <p:blipFill>
          <a:blip r:embed="rId3"/>
          <a:stretch/>
        </p:blipFill>
        <p:spPr>
          <a:xfrm>
            <a:off x="7380360" y="4943520"/>
            <a:ext cx="1297080" cy="8618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C:\Users\KorolkoEA\Desktop\Картинки для бюджета для граждан\element-724112-misc-0.jpg"/>
          <p:cNvPicPr/>
          <p:nvPr/>
        </p:nvPicPr>
        <p:blipFill>
          <a:blip r:embed="rId4"/>
          <a:stretch/>
        </p:blipFill>
        <p:spPr>
          <a:xfrm>
            <a:off x="7407360" y="4003560"/>
            <a:ext cx="1276200" cy="855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C:\Users\KorolkoEA\Desktop\Картинки для бюджета для граждан\2.jpg"/>
          <p:cNvPicPr/>
          <p:nvPr/>
        </p:nvPicPr>
        <p:blipFill>
          <a:blip r:embed="rId5"/>
          <a:stretch/>
        </p:blipFill>
        <p:spPr>
          <a:xfrm>
            <a:off x="7432560" y="2895480"/>
            <a:ext cx="1251000" cy="9288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C:\Users\KorolkoEA\Desktop\Картинки для бюджета для граждан\1233697459_2-people-groups-100-images_cr.jpg"/>
          <p:cNvPicPr/>
          <p:nvPr/>
        </p:nvPicPr>
        <p:blipFill>
          <a:blip r:embed="rId6"/>
          <a:stretch/>
        </p:blipFill>
        <p:spPr>
          <a:xfrm>
            <a:off x="7308720" y="1197000"/>
            <a:ext cx="1490760" cy="1619280"/>
          </a:xfrm>
          <a:prstGeom prst="rect">
            <a:avLst/>
          </a:prstGeom>
          <a:ln w="0">
            <a:noFill/>
          </a:ln>
        </p:spPr>
      </p:pic>
      <p:sp>
        <p:nvSpPr>
          <p:cNvPr id="307" name="Блок-схема: альтернативный процесс 6"/>
          <p:cNvSpPr/>
          <p:nvPr/>
        </p:nvSpPr>
        <p:spPr>
          <a:xfrm>
            <a:off x="179280" y="1484280"/>
            <a:ext cx="936720" cy="901800"/>
          </a:xfrm>
          <a:prstGeom prst="flowChartAlternate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7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ля в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Блок-схема: альтернативный процесс 12"/>
          <p:cNvSpPr/>
          <p:nvPr/>
        </p:nvSpPr>
        <p:spPr>
          <a:xfrm>
            <a:off x="179280" y="2924280"/>
            <a:ext cx="863640" cy="865080"/>
          </a:xfrm>
          <a:prstGeom prst="flowChartAlternateProcess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1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лей в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Блок-схема: альтернативный процесс 15"/>
          <p:cNvSpPr/>
          <p:nvPr/>
        </p:nvSpPr>
        <p:spPr>
          <a:xfrm>
            <a:off x="179280" y="4005360"/>
            <a:ext cx="900360" cy="80964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ля в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Блок-схема: альтернативный процесс 18"/>
          <p:cNvSpPr/>
          <p:nvPr/>
        </p:nvSpPr>
        <p:spPr>
          <a:xfrm>
            <a:off x="179280" y="5013360"/>
            <a:ext cx="935280" cy="7714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лей в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64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города Дмитриев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044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468360" y="1268280"/>
            <a:ext cx="806436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Ежегодно бюджет муниципального образования «Город Дмитриев» утверждается на трехлетний период, в соответствии с действующим законодательством. Проект бюджета рассматривается и обсуждается на публичных слушаниях среди населения. Подлежит опубликованию в газете «Дмитриевский вестник» и на сайте Администрации города Дмитриева. В течении года  производится уточнение бюджета муниципального образования «Город Дмитриев»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1" descr=""/>
          <p:cNvPicPr/>
          <p:nvPr/>
        </p:nvPicPr>
        <p:blipFill>
          <a:blip r:embed="rId2"/>
          <a:stretch/>
        </p:blipFill>
        <p:spPr>
          <a:xfrm>
            <a:off x="682560" y="2468520"/>
            <a:ext cx="3676680" cy="20671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" descr=""/>
          <p:cNvPicPr/>
          <p:nvPr/>
        </p:nvPicPr>
        <p:blipFill>
          <a:blip r:embed="rId3"/>
          <a:stretch/>
        </p:blipFill>
        <p:spPr>
          <a:xfrm>
            <a:off x="4821120" y="2523960"/>
            <a:ext cx="3481560" cy="19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8ed5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тактная информация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дминистрация города Дмитриева Курской област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рская область, г.Дмитриев, ул.Ленина, д. 45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ва города Дмитриева – Рябыкин Алексей Васильевич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лефон: (47150) 2-40-40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акс: (47150) 2-30-3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mitriev4605@yandex.ru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ремя приёма граждан: понедельник, четверг с 9час. 00 мин. по 12 час. 00 мин.</a:t>
            </a:r>
            <a:br>
              <a:rPr sz="2800"/>
            </a:br>
            <a:br>
              <a:rPr sz="1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8ed5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92360" y="1052280"/>
            <a:ext cx="6408720" cy="43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пасибо, что посетили информационный ресурс «Бюджет для граждан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77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города Дмитриев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юджет –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87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города Дмитриев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юджет муниципального образования «Город Дмитриев» составляется и утверждается сроком на три года- очередной финансовый год и пла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ов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ый пери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1066680" y="2090880"/>
            <a:ext cx="7444080" cy="7556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ая соединительная линия 5"/>
          <p:cNvSpPr/>
          <p:nvPr/>
        </p:nvSpPr>
        <p:spPr>
          <a:xfrm>
            <a:off x="4572000" y="2637000"/>
            <a:ext cx="0" cy="6476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ая соединительная линия 7"/>
          <p:cNvSpPr/>
          <p:nvPr/>
        </p:nvSpPr>
        <p:spPr>
          <a:xfrm>
            <a:off x="1332000" y="3284640"/>
            <a:ext cx="6480000" cy="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Прямая со стрелкой 10"/>
          <p:cNvCxnSpPr/>
          <p:nvPr/>
        </p:nvCxnSpPr>
        <p:spPr>
          <a:xfrm>
            <a:off x="1344240" y="3284640"/>
            <a:ext cx="1080" cy="57636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00" name="Прямая со стрелкой 12"/>
          <p:cNvCxnSpPr/>
          <p:nvPr/>
        </p:nvCxnSpPr>
        <p:spPr>
          <a:xfrm>
            <a:off x="7811640" y="3290400"/>
            <a:ext cx="1080" cy="57708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101" name="Скругленный прямоугольник 13"/>
          <p:cNvSpPr/>
          <p:nvPr/>
        </p:nvSpPr>
        <p:spPr>
          <a:xfrm>
            <a:off x="444600" y="3867120"/>
            <a:ext cx="1800000" cy="1871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60">
                <a:moveTo>
                  <a:pt x="3600" y="0"/>
                </a:moveTo>
                <a:arcTo wR="3600" hR="3600" stAng="16200000" swAng="-5400000"/>
                <a:lnTo>
                  <a:pt x="0" y="18860"/>
                </a:lnTo>
                <a:arcTo wR="3600" hR="3600" stAng="10800000" swAng="-5400000"/>
                <a:lnTo>
                  <a:pt x="18000" y="2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Бюджетном послании Президе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Россий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кругленный прямоугольник 23"/>
          <p:cNvSpPr/>
          <p:nvPr/>
        </p:nvSpPr>
        <p:spPr>
          <a:xfrm>
            <a:off x="2664000" y="3876840"/>
            <a:ext cx="1800000" cy="1873080"/>
          </a:xfrm>
          <a:custGeom>
            <a:avLst/>
            <a:gdLst>
              <a:gd name="textAreaLeft" fmla="*/ 93600 w 1800000"/>
              <a:gd name="textAreaRight" fmla="*/ 1706400 w 1800000"/>
              <a:gd name="textAreaTop" fmla="*/ 93600 h 1873080"/>
              <a:gd name="textAreaBottom" fmla="*/ 1779480 h 1873080"/>
            </a:gdLst>
            <a:ahLst/>
            <a:rect l="textAreaLeft" t="textAreaTop" r="textAreaRight" b="textAreaBottom"/>
            <a:pathLst>
              <a:path w="21600" h="22477">
                <a:moveTo>
                  <a:pt x="3842" y="0"/>
                </a:moveTo>
                <a:arcTo wR="3842" hR="3842" stAng="16200000" swAng="-5400000"/>
                <a:lnTo>
                  <a:pt x="0" y="18635"/>
                </a:lnTo>
                <a:arcTo wR="3842" hR="3842" stAng="10800000" swAng="-5400000"/>
                <a:lnTo>
                  <a:pt x="17758" y="22477"/>
                </a:lnTo>
                <a:arcTo wR="3842" hR="3842" stAng="5400000" swAng="-5400000"/>
                <a:lnTo>
                  <a:pt x="21600" y="3842"/>
                </a:lnTo>
                <a:arcTo wR="3842" hR="3842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гн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оциально- экономического разви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рода Дмитрие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Скругленный прямоугольник 24"/>
          <p:cNvSpPr/>
          <p:nvPr/>
        </p:nvSpPr>
        <p:spPr>
          <a:xfrm>
            <a:off x="475128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сновных направлениях бюджетной и налоговой политики города Дмитрие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Скругленный прямоугольник 31"/>
          <p:cNvSpPr/>
          <p:nvPr/>
        </p:nvSpPr>
        <p:spPr>
          <a:xfrm>
            <a:off x="691200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Муниципальных программах города Дмитрие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Прямая со стрелкой 32"/>
          <p:cNvCxnSpPr/>
          <p:nvPr/>
        </p:nvCxnSpPr>
        <p:spPr>
          <a:xfrm>
            <a:off x="3563640" y="3284640"/>
            <a:ext cx="1080" cy="57636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06" name="Прямая со стрелкой 33"/>
          <p:cNvCxnSpPr/>
          <p:nvPr/>
        </p:nvCxnSpPr>
        <p:spPr>
          <a:xfrm>
            <a:off x="5651280" y="3290400"/>
            <a:ext cx="1080" cy="57708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Text Box 2"/>
          <p:cNvGrpSpPr/>
          <p:nvPr/>
        </p:nvGrpSpPr>
        <p:grpSpPr>
          <a:xfrm>
            <a:off x="0" y="0"/>
            <a:ext cx="9137520" cy="6156360"/>
            <a:chOff x="0" y="0"/>
            <a:chExt cx="9137520" cy="6156360"/>
          </a:xfrm>
        </p:grpSpPr>
        <p:pic>
          <p:nvPicPr>
            <p:cNvPr id="108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города Дмитриев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3960" y="-316080"/>
            <a:ext cx="8229600" cy="561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Text Box 2"/>
          <p:cNvGrpSpPr/>
          <p:nvPr/>
        </p:nvGrpSpPr>
        <p:grpSpPr>
          <a:xfrm>
            <a:off x="6480" y="0"/>
            <a:ext cx="9137520" cy="6156360"/>
            <a:chOff x="6480" y="0"/>
            <a:chExt cx="9137520" cy="6156360"/>
          </a:xfrm>
        </p:grpSpPr>
        <p:pic>
          <p:nvPicPr>
            <p:cNvPr id="118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города Дмитриев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 муниципального образования «Город Дмитриев» на 2019 год и на плановый период 2020 и 2021 годов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5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95280" y="1484280"/>
          <a:ext cx="8353440" cy="4176720"/>
        </p:xfrm>
        <a:graphic>
          <a:graphicData uri="http://schemas.openxmlformats.org/drawingml/2006/table">
            <a:tbl>
              <a:tblPr/>
              <a:tblGrid>
                <a:gridCol w="2089080"/>
                <a:gridCol w="2087640"/>
                <a:gridCol w="2087640"/>
                <a:gridCol w="2089080"/>
              </a:tblGrid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9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9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5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91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4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5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91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8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Text Box 2"/>
          <p:cNvGrpSpPr/>
          <p:nvPr/>
        </p:nvGrpSpPr>
        <p:grpSpPr>
          <a:xfrm>
            <a:off x="6480" y="6480"/>
            <a:ext cx="9137520" cy="6156360"/>
            <a:chOff x="6480" y="6480"/>
            <a:chExt cx="9137520" cy="6156360"/>
          </a:xfrm>
        </p:grpSpPr>
        <p:pic>
          <p:nvPicPr>
            <p:cNvPr id="129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6480"/>
              <a:ext cx="91375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города Дмитриев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044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ходы бюджета муниципального образования «Город Дмитриев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alibri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alibri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безвозмездные и безвозвратны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поступления денежных средств в бюдж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alibri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налог на доходы физических лиц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доходы от уплаты акцизов на нефтепродукты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- друг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Прямая со стрелкой 5"/>
          <p:cNvCxnSpPr>
            <a:stCxn id="139" idx="6"/>
            <a:endCxn id="138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41" name="Прямая со стрелкой 7"/>
          <p:cNvCxnSpPr>
            <a:stCxn id="142" idx="2"/>
            <a:endCxn id="138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43" name="Прямая со стрелкой 12"/>
          <p:cNvCxnSpPr>
            <a:endCxn id="138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144" name="TextBox 15"/>
          <p:cNvSpPr/>
          <p:nvPr/>
        </p:nvSpPr>
        <p:spPr>
          <a:xfrm>
            <a:off x="5003640" y="327960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alibri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поступления в бюджет на безвозмездной и безвозвратной основе из областного бюджета (субсидии, субвенции), бюджета муниципального района(дотации),а также перечисления от физических и юридических лиц (кроме налоговых и неналоговых доходов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alibri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доходы от использования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муниципального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- другие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Диаграмма 1"/>
          <p:cNvGraphicFramePr/>
          <p:nvPr/>
        </p:nvGraphicFramePr>
        <p:xfrm>
          <a:off x="-36360" y="0"/>
          <a:ext cx="9518400" cy="634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0"/>
                    <a:ext cx="9518400" cy="634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14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4"/>
            <p:cNvSpPr/>
            <p:nvPr/>
          </p:nvSpPr>
          <p:spPr>
            <a:xfrm>
              <a:off x="6120" y="6120"/>
              <a:ext cx="9131040" cy="61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города Дмитриев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932360" y="1484280"/>
          <a:ext cx="4038480" cy="2185920"/>
        </p:xfrm>
        <a:graphic>
          <a:graphicData uri="http://schemas.openxmlformats.org/drawingml/2006/table">
            <a:tbl>
              <a:tblPr/>
              <a:tblGrid>
                <a:gridCol w="2417760"/>
                <a:gridCol w="162072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35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" name="Object 22"/>
          <p:cNvGraphicFramePr/>
          <p:nvPr/>
        </p:nvGraphicFramePr>
        <p:xfrm>
          <a:off x="431640" y="1646280"/>
          <a:ext cx="4037040" cy="2184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9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1640" y="1646280"/>
                    <a:ext cx="403704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90360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труктура налоговых и неналоговых доходов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бюджета муниципального образования «Город Дмитриев» в 2019 - 2021 г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Object 24"/>
          <p:cNvGraphicFramePr/>
          <p:nvPr/>
        </p:nvGraphicFramePr>
        <p:xfrm>
          <a:off x="237960" y="3740040"/>
          <a:ext cx="8933040" cy="2340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62" name="Object 2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7960" y="3740040"/>
                    <a:ext cx="893304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25"/>
          <p:cNvGraphicFramePr/>
          <p:nvPr/>
        </p:nvGraphicFramePr>
        <p:xfrm>
          <a:off x="4087800" y="1646280"/>
          <a:ext cx="4691160" cy="21844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64" name="Object 2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87800" y="1646280"/>
                    <a:ext cx="469116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Rectangle 37"/>
          <p:cNvSpPr/>
          <p:nvPr/>
        </p:nvSpPr>
        <p:spPr>
          <a:xfrm>
            <a:off x="250920" y="1052640"/>
            <a:ext cx="84643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ДОХОДЫ всего: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2019 – 15042,4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тыс.рублей</a:t>
            </a:r>
            <a:r>
              <a:rPr b="1" lang="ru-RU" sz="10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 2020 – 15511,5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тыс.рублей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021 – 15828,8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тыс.руб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Светлана</cp:lastModifiedBy>
  <cp:lastPrinted>2018-11-16T05:39:26Z</cp:lastPrinted>
  <dcterms:modified xsi:type="dcterms:W3CDTF">2018-11-16T07:42:43Z</dcterms:modified>
  <cp:revision>144</cp:revision>
  <dc:subject/>
  <dc:title>Презентация PowerPoint</dc:title>
</cp:coreProperties>
</file>